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DFC-9A8B-403C-A7A0-2545A6A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968-143D-4167-85D6-C4C6BC08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2F72-D702-4346-810A-036352A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4F3-73E1-4061-BC23-D5DB1584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D70-325E-40B1-BF21-C904098D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207-C34E-4E25-BAC8-9E1E15CE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BA8-E45F-4E9C-9D93-93A0702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E20-165C-4213-B17D-6B676BB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0D6-C732-4308-B8AD-011873E1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50A2-06AD-470B-966D-0FA94F8E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A6C-955D-48DD-B5A9-190776CE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DE8C-949B-402C-B13C-05C84B83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B42E-7EF0-47CC-9B45-C0711D65621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740-EA74-46E8-95A4-DE3B95D92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uter Communication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232 Line Descri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ignal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shaking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pment ready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232 Line Descri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detect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ng indicator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3: Overview of Current Serial Computer Communication Standar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verview of Current Serial Computer Communication Standard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6" descr="tab11_03.jp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39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422, RS-4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differential technique that provides significant improvement in performance and greater distances and capacity to support higher data r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s multidrop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4: Standard Computer Bus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tandard Computer Bus Interfac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2" descr="tab11_04a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4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tandard Computer Bus Interfac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2" descr="tab11_04b.jp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cal-Area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l-Area Network (L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l microcomputer-type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Ns defined in terms of topology (architecture) used to interconnect networking equipment and protocol for accessing net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cal-Area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l-Area Network (L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sense multiple access with collision detection (CSMA/C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 and star topologies; token passing; token-ring topolog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cal-Area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hernet 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band CSMA/CD protocol local area network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bility for detecting data collisions (collision detec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hernet protocol provides information regarding source and destination addr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ssembling a L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Office LAN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network hardware and software properly set up, all computers will be able to access server, printer, other compu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5: Common Numerics for LAN Cab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phanumeric Co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SCII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n Standard Code for Information Interchange (ASCI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-bit code used for representing alphanumeric symbols with a distinctive code wo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for purpose of coding binary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CII-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opted international standa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mon Numerics for LAN Cablin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tab11_05.jpg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ssembling a L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embling a Building 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work where multiple LANs within a building are connected toge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N Interconn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ropolitan area networks (M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or more LANs linked together within limited geographical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de-area network (W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or more LANs linked together over wide geographical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N Interconn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en systems interconnection (OSI) reference mo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by International Organization for Standardization (IS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N Interconn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connecting L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et Protocol (IP) Address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que address that tells on which network the computer is loca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ed by Internet Assigned Numbers Authority (IAN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6: The Three Classes of IP Networ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Three Classes of IP Network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2" descr="tab11_06.jpg"/>
          <p:cNvPicPr/>
          <p:nvPr/>
        </p:nvPicPr>
        <p:blipFill>
          <a:blip r:embed="rId1"/>
          <a:stretch/>
        </p:blipFill>
        <p:spPr>
          <a:xfrm>
            <a:off x="228600" y="1757520"/>
            <a:ext cx="86868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P Telephon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P telephony (voice-over I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phone system for computer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ies comparable to private branch exchange (PBX) telephone systems while maintaining flexibility of computer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facing th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m Technolog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ransmit data via a phone requires conversion of a signal within 300- to 3400-Hz range; conversion provided by a mod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ble Mod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bandwidth network to deliver high-speed, two-way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facing th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ervices Digital Net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ommunications link for both voice and data using a set of standardized interfa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phanumeric Co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BCDIC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ed Binary-Coded Decimal Interchange Code (EBCD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-bit alphanumeric co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audot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phanumeric code based on five binary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facing th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DSL Mod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speed internet access technolo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subscriber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copper telephone lines for carry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7: xDSL Services and Their Projected Data R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xDSL Services and Their Projected Data Rat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2" descr="tab11_07.jpg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on maintenance situation for larger LAN installations is to set up a help des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I model to troublesho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s with unshielded twisted-pair wi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irs become crossed or split up; wrong kind of connector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ep good-quality wiring diagrams of network install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phanumeric Co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ay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eric code representing decimal values 0 to 9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relationship that only one bit in a binary word changes for each binary ste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ynchron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 and receive clocks free-run at approximately same spe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sender and receiver exactly synchronized to same clock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versal Serial Bus (USB) 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versal high-speed serial communications interfa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2: The USB Wire Colors an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2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USB Wire Colors and Func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Picture 3" descr="tab11_02.jpg"/>
          <p:cNvPicPr/>
          <p:nvPr/>
        </p:nvPicPr>
        <p:blipFill>
          <a:blip r:embed="rId1"/>
          <a:stretch/>
        </p:blipFill>
        <p:spPr>
          <a:xfrm>
            <a:off x="2508120" y="990720"/>
            <a:ext cx="4121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EEE 13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speed serial connection for computers and peripherals; developed by Apple (FireWir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232 Standa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serial data communications follows standard (RS-232 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of interfacing computer with mod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signal levels and different lines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39:15Z</dcterms:modified>
  <cp:revision>5</cp:revision>
  <dc:subject/>
  <dc:title>Slide 1</dc:title>
</cp:coreProperties>
</file>